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95149"/>
        <c:axId val="42424949"/>
      </c:barChart>
      <c:catAx>
        <c:axId val="65095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24949"/>
        <c:crosses val="autoZero"/>
        <c:auto val="1"/>
        <c:lblAlgn val="ctr"/>
        <c:lblOffset val="100"/>
        <c:noMultiLvlLbl val="0"/>
      </c:catAx>
      <c:valAx>
        <c:axId val="42424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95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3DC-F369-4000-ABFF-33657372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4BE-423E-4812-B70C-1846136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0E1-5A0F-419A-8E26-8CB69A0D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335-27FD-4799-A9D6-7EEE8F68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B62-E773-4D14-8DA0-4FE84EAF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BE8-3702-48EF-BEF7-3961FC34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180-B48E-46D1-B966-86424712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3A0-43CC-4713-A6E2-93992C2E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741-A00E-4459-B910-D79571A4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C0E-C387-40E4-8905-8EB8DF57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E58-0248-4A49-A33D-AC26350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0FB-A07B-4131-97AD-4115550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50FFF-1F25-4A3D-B31F-F6AAD7D228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